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E54-DBAC-47A5-838A-16217BC1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49D-E290-46D3-9579-CAB57CE7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387-841B-4E04-9B16-DC180604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352-EA5F-4675-8DCB-A22D58CD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6E59-AD08-4F2C-96AE-02D3AD13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D448-F418-42F8-A38B-0DC532AB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EE25-5B35-45DC-B2EB-D9C4DC39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1AA1-FEC1-42BF-873A-0EFC48AE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345-AF93-42F7-A6D2-326FDBD5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FE44-C904-4E20-892F-D335D7D2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9AE-1B58-4A22-BE21-60788FE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6FD-276F-4F67-A20E-B31DA576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7216-9786-46DA-9B2D-05EBE52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D237-C873-48E0-8EB6-E1991D22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51C-D5C2-4172-A74E-9E344E2B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408F-F44B-4950-9743-9629F6BD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C2F6-C376-4DFA-8C65-C4A4F5F6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00B-E597-45B0-9992-4B3B631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C9F-5519-4519-99DF-70E90F32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5A8-B8A1-456D-9E0A-F01530E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AC4-71F8-4ED2-B206-FACF9E93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CC5-16E5-4594-AF72-BD70184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D1B-6285-4AA3-9598-FD9D0FA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8C0-E42D-4B15-9D42-DDCC824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4A2-1F9B-42E4-8342-FB0E1191283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6940-4CF0-457B-B5AD-AB8F587EB91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2004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Identifying Variables</a:t>
            </a: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Designing Investigation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as a controlled variab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ame puzzl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ll of the participants were tested with the same puzzle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t would not have been a fair test if some had an easy 30 piece puzzle and some had a harder 500 piece puzzle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other exampl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investigation was done with an electromagnetic system made from a battery and wire wrapped around a nail.  Different sizes of nails were used.  The number of paper clips the electromagnet could pick up was measured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the variables in this investigati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pendent variabl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izes of nail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se were changed by the scienti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pendent variabl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mber of paper clips picked up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number of paper clips observed and counted (measured)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lled variabl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Battery, wire, type of nail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ne of these items were chang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ne mor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higher the temperature of water, the faster an egg will boil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0" y="1676160"/>
            <a:ext cx="89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ndependent variable – temperature of w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pendent variable – time to cook an eg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ntrolled variable – type of eg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Kinds of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dependent Variable – something that is changed by the scientis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manipu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ast on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temperature of water was measured at different depths of a pond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076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dependent variable – depth of the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pendent variable –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trolled variable –  thermome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ing Invest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greater the amount of soap in a soap and water mixture, the bigger a soap bubble can be blown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2127240"/>
            <a:ext cx="792324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an investigation to test this hypothes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the variab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exactly will be changed?  How will it be chang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exactly will be measured?  How will it be measur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arther a ball drops, the higher it will bounc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999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sign an investigation to test this hypothesi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dentify the variabl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exactly will be changed?  How will it be changed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exactly will be measured?  How will it be measured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Kinds of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pendent Variable – something that might be affected by the change in the independent variabl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obser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measu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data collected during the investig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Kinds of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trolled Variable – a variable that is not chang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so called con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 for a “fair test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or Exampl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udents of different ages were given the same jigsaw puzzle to put together.  They were timed to see how long it took to finish the puzzle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dentify the variables in this investigation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independent variabl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ges of the stud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fferent ages were tested by the scienti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dependent variabl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ime it to put the puzzle togeth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time was observed and measured by the scienti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2:12:20Z</dcterms:created>
  <dc:creator>Preferred Customer</dc:creator>
  <dc:description/>
  <dc:language>en-US</dc:language>
  <cp:lastModifiedBy>Mary Poarch</cp:lastModifiedBy>
  <dcterms:modified xsi:type="dcterms:W3CDTF">2005-08-22T00:44:12Z</dcterms:modified>
  <cp:revision>34</cp:revision>
  <dc:subject/>
  <dc:title>Identifying Variables</dc:title>
</cp:coreProperties>
</file>